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CA4-A68D-4E5F-9CB2-F1AC8154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2FB-CE3B-4BB7-8110-4DCEAAC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3B3-0A04-4559-99A8-3AE48BE1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29D-CCD6-4D08-BD7B-D262D3DA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E0D-07E1-4090-84A4-D6E5A9A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319-1786-4E3E-A75C-392320A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07E-80D7-41BA-8AF1-225B8A2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D5D-DA56-4D93-B85D-975A05D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6F8-EFB5-4FBE-8C50-F5D37A86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5AA-C002-4C2A-927F-5B76902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0D8-1FCD-433B-96B0-1928BB9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567-127E-4849-B756-FEFA7C33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B6D3-7F3D-4DF0-8101-AEEBFA5B8B1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../&#201;RASE%20QUE%20SE%20ERA.ppsx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095120"/>
            <a:ext cx="500076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RELATO POPULA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1680" y="4524480"/>
            <a:ext cx="5572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Transmítese oralmente e vai medrando co paso do tempo, manténdose na súa estrutura, pero admitindo variacións. De autoría colectiva, nunca se pode dar por absolutamente fixado. É frecuente que se rexistre por escrito moito despois de nacer  e mesmo que existan varias tradicións distintas do mesmo relato. Ás veces estes contos poden ter derivacións que se mesturan e interactúan entre si dando lugar a “materias” literarias como a “materia artúrica” podendo tamén entrar na literatura de autor a través das revisións que delas se fan ao longo da historia.  </a:t>
            </a:r>
            <a:endParaRPr b="0" lang="en-US" sz="1900" spc="-1" strike="noStrike">
              <a:solidFill>
                <a:srgbClr val="000000"/>
              </a:solidFill>
              <a:latin typeface="DK Thievery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1900" spc="-1" strike="noStrike">
                <a:solidFill>
                  <a:srgbClr val="000000"/>
                </a:solidFill>
                <a:latin typeface="DK Thievery"/>
              </a:rPr>
              <a:t>As lendas e os mitos teñen estas mesmas características aínda que se constituísen en xéneros independentes. A diferenza do relato ou conto popular, estes ofrécense como relatos verídicos e o relato popular, en troca, preséntase como ficción e non ten maiores pretensións. </a:t>
            </a:r>
            <a:endParaRPr b="0" lang="en-US" sz="19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3" name="Picture 16" descr="ANd9GcRcFXLowVGec8x1PgoYFkFBT8zBluZEZoW4WNsUaIzwAto5S759KQ"/>
          <p:cNvPicPr/>
          <p:nvPr/>
        </p:nvPicPr>
        <p:blipFill>
          <a:blip r:embed="rId1"/>
          <a:stretch/>
        </p:blipFill>
        <p:spPr>
          <a:xfrm>
            <a:off x="2500200" y="2452680"/>
            <a:ext cx="1743120" cy="1857240"/>
          </a:xfrm>
          <a:prstGeom prst="rect">
            <a:avLst/>
          </a:prstGeom>
          <a:ln w="0">
            <a:noFill/>
          </a:ln>
        </p:spPr>
      </p:pic>
      <p:sp>
        <p:nvSpPr>
          <p:cNvPr id="44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D0D-275D-4E00-9BAE-2DEB783C39E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34880" y="809640"/>
            <a:ext cx="75103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galeg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4280" y="4524120"/>
            <a:ext cx="485784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Chegou un día un ao ceo e cando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topou con San Pedro, o santo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íxolle: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Non, ti non podes pasar que non fixeches ningunha boa obra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Como que non! Deille tres perras chicas unha vez a un pobre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E San Pedro foi falar con Noso Señor a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ver se o deixaba pasar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E que fixo bo?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Deulle tres perras chicas a un pobre.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6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 Máis nada? Pois logo devólvelle as tres perras chicas e que marche pra o inferno con elas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81" name="Picture 8" descr="ceus-celestiais-thumb12684944"/>
          <p:cNvPicPr/>
          <p:nvPr/>
        </p:nvPicPr>
        <p:blipFill>
          <a:blip r:embed="rId1"/>
          <a:srcRect l="26454" t="18900" r="0" b="5463"/>
          <a:stretch/>
        </p:blipFill>
        <p:spPr>
          <a:xfrm>
            <a:off x="2011320" y="2117880"/>
            <a:ext cx="2556000" cy="2263680"/>
          </a:xfrm>
          <a:prstGeom prst="rect">
            <a:avLst/>
          </a:prstGeom>
          <a:ln w="0">
            <a:noFill/>
          </a:ln>
        </p:spPr>
      </p:pic>
      <p:sp>
        <p:nvSpPr>
          <p:cNvPr id="82" name="5 Marcador de número de diapositiva"/>
          <p:cNvSpPr/>
          <p:nvPr/>
        </p:nvSpPr>
        <p:spPr>
          <a:xfrm>
            <a:off x="4481640" y="9020160"/>
            <a:ext cx="1947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78C-AA73-4C96-8184-3B0EAE23C406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861480"/>
            <a:ext cx="6172200" cy="16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A materia de Bretañ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84" name="4 Marcador de contenido" descr="Lancelot.jpg"/>
          <p:cNvPicPr/>
          <p:nvPr/>
        </p:nvPicPr>
        <p:blipFill>
          <a:blip r:embed="rId1"/>
          <a:stretch/>
        </p:blipFill>
        <p:spPr>
          <a:xfrm>
            <a:off x="2643120" y="2062080"/>
            <a:ext cx="1576440" cy="2176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3880" y="4485960"/>
            <a:ext cx="535788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quel dia que vos eu digo, direitamente quando queriam poer as mesas –esto era ora de noa– aveeo que üa donzela chegou i, mui fremosa e mui bem vestida. E entrou no paaço a pee, como mandadeira. Ela começou a catar de üa parte e da outra, pelo paaço; e perguntavam-na que demandava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u demando –disse ela– por Dom Lançarot do Lago. É aqui?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i, donzela –isse üu cavaleiro. Veede-lo: stá aaquela freesta, falando com Dom Gualvam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la foi logo pera el e salvô-o. Ele, tanto que a vio, recebeo-a mui bem e abraçou-a, ca aquela era üa das donzelas que moravam na Insoa da Lediça, que a filha Amida del-rei Peles amava mais que donzela da sua companha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i, donzela! – isse Lançalot– que ventura vos adusse aqui, que bem sei que sem razom nom veestes vós?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Senhor, verdade é; mais rogo-vos, se vos aprouguer, que vaades comigo aaquela foresta de Camaalot; e sabede que manhãa, ora de comer, seeredes aqui.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  <a:p>
            <a:pPr marL="277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4 Marcador de número de diapositiva"/>
          <p:cNvSpPr/>
          <p:nvPr/>
        </p:nvSpPr>
        <p:spPr>
          <a:xfrm>
            <a:off x="4915080" y="9015480"/>
            <a:ext cx="1600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7116-EEBD-4713-9F0B-1EDD3A3748BF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Rectángulo">
            <a:hlinkClick r:id="rId2"/>
          </p:cNvPr>
          <p:cNvSpPr/>
          <p:nvPr/>
        </p:nvSpPr>
        <p:spPr>
          <a:xfrm>
            <a:off x="3143160" y="8453520"/>
            <a:ext cx="714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1009440"/>
            <a:ext cx="35719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carencia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1360" y="4809960"/>
            <a:ext cx="450036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conto comeza cunha “carencia”. Se todo funciona ben, non hai conto. A carencia é calquera acontecemento que rompe o equilibrio preexistente á historia: unha herdanza, un abandono, un exilio, unha ameaza, unha traizón ou unha prohibición, que desencadenará a toma de decisións por parte do heroe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47" name="Picture 15" descr="Imaginaria » Cuentos populares rusos: “La pluma del halcón” | Literatura infantil y juvenil | Scoop.it"/>
          <p:cNvPicPr/>
          <p:nvPr/>
        </p:nvPicPr>
        <p:blipFill>
          <a:blip r:embed="rId1"/>
          <a:srcRect l="3737" t="13422" r="7749" b="19771"/>
          <a:stretch/>
        </p:blipFill>
        <p:spPr>
          <a:xfrm>
            <a:off x="2322360" y="2154240"/>
            <a:ext cx="2106720" cy="2298600"/>
          </a:xfrm>
          <a:prstGeom prst="rect">
            <a:avLst/>
          </a:prstGeom>
          <a:ln w="0">
            <a:noFill/>
          </a:ln>
        </p:spPr>
      </p:pic>
      <p:sp>
        <p:nvSpPr>
          <p:cNvPr id="48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E95-051B-4806-B876-852880155E5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1523880"/>
            <a:ext cx="62182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antagonista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e o engan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524200"/>
            <a:ext cx="4572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antagonista é aquel personaxe que no conto só procura o dano do heroe. Engánao e consegue facer del unha vítima; o heroe, inicialmente, debe ceder ante o agresor, cumprir un desafío ou un castigo, marchar ou enfrontarse a un cruel destino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51" name="Picture 12" descr="844733d9025914a04ebf6d5e0a14ab47_article"/>
          <p:cNvPicPr/>
          <p:nvPr/>
        </p:nvPicPr>
        <p:blipFill>
          <a:blip r:embed="rId1"/>
          <a:stretch/>
        </p:blipFill>
        <p:spPr>
          <a:xfrm>
            <a:off x="907920" y="2895480"/>
            <a:ext cx="5021280" cy="2271960"/>
          </a:xfrm>
          <a:prstGeom prst="rect">
            <a:avLst/>
          </a:prstGeom>
          <a:ln w="0">
            <a:noFill/>
          </a:ln>
        </p:spPr>
      </p:pic>
      <p:sp>
        <p:nvSpPr>
          <p:cNvPr id="52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14D-EEA4-4094-B2D6-958F456942EF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17384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proba, o regalo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iaxe, a loita...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5310000"/>
            <a:ext cx="51436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rala primeira derrota, o heroe debe superar unha proba, realizar unha viaxe -case sempre en procura de algo- ou enfrontarse a un inimigo moi poderoso e superior en forzas a el... Malia todo, o heroe conta cunha axuda, un consello ou un obxecto marabilloso que lle axudarán na súa empresa, o regalo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17360" y="66600"/>
            <a:ext cx="228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17360" y="66600"/>
            <a:ext cx="228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cuentos-infantiles-header"/>
          <p:cNvPicPr/>
          <p:nvPr/>
        </p:nvPicPr>
        <p:blipFill>
          <a:blip r:embed="rId1"/>
          <a:stretch/>
        </p:blipFill>
        <p:spPr>
          <a:xfrm>
            <a:off x="2357280" y="3381480"/>
            <a:ext cx="2143440" cy="1682640"/>
          </a:xfrm>
          <a:prstGeom prst="rect">
            <a:avLst/>
          </a:prstGeom>
          <a:ln w="0">
            <a:noFill/>
          </a:ln>
        </p:spPr>
      </p:pic>
      <p:sp>
        <p:nvSpPr>
          <p:cNvPr id="58" name="6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DDB-82A5-44C3-A01E-3782F2C08712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1372680"/>
            <a:ext cx="557208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persecución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itoria, o regreso,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a voda... a reparación da ofensa.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5881680"/>
            <a:ext cx="50720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Trala solución correcta da proba, a vitoria no enfrontamento, o éxito na procura... o heroe obtén o seu premio: acada riquezas, casa co seu amor ou simplemente volve á casa. En calquera caso, as augas volven ao seu, o dano é reparado e os antagonistas reciben o seu castigo. É dicir, remata a historia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1" name="Picture 8" descr="Isumbochi"/>
          <p:cNvPicPr/>
          <p:nvPr/>
        </p:nvPicPr>
        <p:blipFill>
          <a:blip r:embed="rId1"/>
          <a:stretch/>
        </p:blipFill>
        <p:spPr>
          <a:xfrm>
            <a:off x="2214720" y="3595680"/>
            <a:ext cx="2286000" cy="2092320"/>
          </a:xfrm>
          <a:prstGeom prst="rect">
            <a:avLst/>
          </a:prstGeom>
          <a:ln w="0">
            <a:noFill/>
          </a:ln>
        </p:spPr>
      </p:pic>
      <p:sp>
        <p:nvSpPr>
          <p:cNvPr id="62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F03-F9BD-4EF5-A437-2E97D2798271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130968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Os relatos tradicionais repítense e viaxan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5167440"/>
            <a:ext cx="56437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Unha característica do conto tradicional é que viaxa moito. Historias semellantes cóntanse ao longo do tempo en diversos lugares do mundo, pero cada comunidade tíngueos coa súa particular maneira de interpretar a vida. Forman parte do patrimonio inmaterial de cada pobo. Gardan a súa memoria e a súa alma e por todas partes tamén están en perigo de extinción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5" name="Picture 8" descr="ANd9GcSbXT0tVhyfsP-oBQpm3PA5kdVBftvqzMEpJlNaV19jFv1Pn81KcA"/>
          <p:cNvPicPr/>
          <p:nvPr/>
        </p:nvPicPr>
        <p:blipFill>
          <a:blip r:embed="rId1"/>
          <a:stretch/>
        </p:blipFill>
        <p:spPr>
          <a:xfrm>
            <a:off x="2679840" y="3095640"/>
            <a:ext cx="1606320" cy="1628640"/>
          </a:xfrm>
          <a:prstGeom prst="rect">
            <a:avLst/>
          </a:prstGeom>
          <a:ln w="0">
            <a:noFill/>
          </a:ln>
        </p:spPr>
      </p:pic>
      <p:sp>
        <p:nvSpPr>
          <p:cNvPr id="66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722E-60FF-4CE6-843B-E8631021EB4C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7383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chino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4452840"/>
            <a:ext cx="464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3200" spc="-1" strike="noStrike">
                <a:solidFill>
                  <a:srgbClr val="000000"/>
                </a:solidFill>
                <a:latin typeface="Arial"/>
                <a:ea typeface="Arial"/>
              </a:rPr>
              <a:t>MOLA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Hai moito, moito tempo, o pobo da nacionalidade “iugu” atravesou o deserto de Gobi, a canda os seus camelos, vacas e ovellas, pasando por pantanos moi brañentos. Atravesando a estepa e camiñando, camiñando, chegou desde o distante Xinjiang ata o pé das montañas Qilian, en Gansu..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69" name="Picture 16" descr="portada2"/>
          <p:cNvPicPr/>
          <p:nvPr/>
        </p:nvPicPr>
        <p:blipFill>
          <a:blip r:embed="rId1"/>
          <a:srcRect l="6299" t="2923" r="26969" b="31003"/>
          <a:stretch/>
        </p:blipFill>
        <p:spPr>
          <a:xfrm>
            <a:off x="2593800" y="2081160"/>
            <a:ext cx="1835280" cy="2379600"/>
          </a:xfrm>
          <a:prstGeom prst="rect">
            <a:avLst/>
          </a:prstGeom>
          <a:ln w="0">
            <a:noFill/>
          </a:ln>
        </p:spPr>
      </p:pic>
      <p:sp>
        <p:nvSpPr>
          <p:cNvPr id="70" name="5 Marcador de número de diapositiva"/>
          <p:cNvSpPr/>
          <p:nvPr/>
        </p:nvSpPr>
        <p:spPr>
          <a:xfrm>
            <a:off x="4915080" y="8956800"/>
            <a:ext cx="16002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955-4485-4114-A2F8-82852AB4EB6E}" type="slidenum">
              <a:rPr b="1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309680"/>
            <a:ext cx="61722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Un conto de Ecuador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4881240"/>
            <a:ext cx="514332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HISTORIA DE CANTUÑA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ero un día, cuando regresaba a su casa, salió de entre las piedras un hombrecillo vestido de rojo con patillas y barba muy puntiaguda que le dijo: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Soy Satanás, quiero ayudarte. Yo puedo acabar el campanario de la iglesia  en tu lugar, antes de que caiga el sol. En pago, me darás tu alma. ¿Aceptas?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73" name="Picture 12" descr="ALABANZA-DEL-ECUADOR"/>
          <p:cNvPicPr/>
          <p:nvPr/>
        </p:nvPicPr>
        <p:blipFill>
          <a:blip r:embed="rId1"/>
          <a:stretch/>
        </p:blipFill>
        <p:spPr>
          <a:xfrm>
            <a:off x="2000160" y="2238480"/>
            <a:ext cx="3143520" cy="2444760"/>
          </a:xfrm>
          <a:prstGeom prst="rect">
            <a:avLst/>
          </a:prstGeom>
          <a:ln w="0">
            <a:noFill/>
          </a:ln>
        </p:spPr>
      </p:pic>
      <p:sp>
        <p:nvSpPr>
          <p:cNvPr id="74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695F-9ACF-4AFE-8DD8-F088B495CF38}" type="slidenum">
              <a:rPr b="1" lang="gl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1095480"/>
            <a:ext cx="6172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  <a:ea typeface="Arial"/>
              </a:rPr>
              <a:t>Un conto de Áfric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5880" y="4524120"/>
            <a:ext cx="521496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POR QUE A XIRAFA NON DI NADA?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eus, despois da Creación, preguntou aos animais se algún desexaba algo en especial e a xirafa dixo: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-A min habíame gustar ser sabia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aquela Deus ordenoulle que non falase máis, porque os que moito falan son uns trapalleiros e os sabios falan pouco e sempre escoitan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Desde ese momento a xirafa olla para abaixo, olla e escoita, pero non dá fala. 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77" name="Picture 8" descr="ANd9GcR5kCUxUjfn9WhyJLlypWEtbRbvkSIqWjNnxAEDV349Y4zyIo06"/>
          <p:cNvPicPr/>
          <p:nvPr/>
        </p:nvPicPr>
        <p:blipFill>
          <a:blip r:embed="rId1"/>
          <a:srcRect l="0" t="0" r="0" b="12663"/>
          <a:stretch/>
        </p:blipFill>
        <p:spPr>
          <a:xfrm>
            <a:off x="1973160" y="1881360"/>
            <a:ext cx="3098880" cy="2341440"/>
          </a:xfrm>
          <a:prstGeom prst="rect">
            <a:avLst/>
          </a:prstGeom>
          <a:ln w="0">
            <a:noFill/>
          </a:ln>
        </p:spPr>
      </p:pic>
      <p:sp>
        <p:nvSpPr>
          <p:cNvPr id="78" name="5 Marcador de número de diapositiva"/>
          <p:cNvSpPr/>
          <p:nvPr/>
        </p:nvSpPr>
        <p:spPr>
          <a:xfrm>
            <a:off x="491508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D84-DC35-42F4-B949-9A5C88C5603A}" type="slidenum">
              <a:rPr b="0" lang="gl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31:14Z</dcterms:created>
  <dc:creator>USER</dc:creator>
  <dc:description/>
  <dc:language>en-US</dc:language>
  <cp:lastModifiedBy>Usuario</cp:lastModifiedBy>
  <dcterms:modified xsi:type="dcterms:W3CDTF">2013-04-15T09:44:41Z</dcterms:modified>
  <cp:revision>25</cp:revision>
  <dc:subject/>
  <dc:title>O relato popular</dc:title>
</cp:coreProperties>
</file>